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2AD5-A574-4051-AB2C-C8CA563B9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65FE-47B1-4303-B371-A0C8F6AB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7369-375E-4A7D-8A00-7C4C0CBC2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062C-C77F-4B0D-A375-249763F69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64EA-1E3B-48DC-AB2B-071F0D6F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80E8-F255-44AB-8BA3-399CE022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D8A3-3384-481D-84ED-9572B4F1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EA4E-56A8-49EB-95BE-F8A5C64B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6850-CA16-4DF6-B52D-890997A4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406B-DF24-403D-AA69-9F44AA69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991C-08C4-43E0-BFF4-FB117B37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E06B-EA63-46E7-A1CD-EEAFC797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42E6-AC00-400B-BCE3-18E7EF7EC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ikispaces.com/" TargetMode="Externa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Comic Sans MS"/>
              </a:rPr>
              <a:t>Int 2/Int 1 P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514600"/>
            <a:ext cx="79250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kills and Techni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Less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Wednesday 25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omic Sans MS"/>
              </a:rPr>
              <a:t>th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Nove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Question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220500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s a result of analysing your data give a detailed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explanation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of your strengths and weaknesse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Question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20500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s a result of analysing your data give a detailed explanation of your development needs (3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197000"/>
            <a:ext cx="845820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Complete questions 3 and 4 on lined A4 paper. Make sure that you are very detailed in your answers and write very nea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Write down the question before you answer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Use the wikipage to recap what we have covered and to see schedules. (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www.wikispaces.com</a:t>
            </a: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) (int2-P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Due date – Wednesday 2</a:t>
            </a:r>
            <a:r>
              <a:rPr b="0" i="1" lang="en-GB" sz="2800" spc="-1" strike="noStrike" baseline="30000">
                <a:solidFill>
                  <a:srgbClr val="ffff00"/>
                </a:solidFill>
                <a:latin typeface="Comic Sans MS"/>
              </a:rPr>
              <a:t>nd</a:t>
            </a: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 Dec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10:16:19Z</dcterms:created>
  <dc:creator>CarmichaelMA</dc:creator>
  <dc:description/>
  <dc:language>en-US</dc:language>
  <cp:lastModifiedBy>CARMICHAELMA</cp:lastModifiedBy>
  <dcterms:modified xsi:type="dcterms:W3CDTF">2009-11-25T11:53:29Z</dcterms:modified>
  <cp:revision>27</cp:revision>
  <dc:subject/>
  <dc:title>Intermediate PE</dc:title>
</cp:coreProperties>
</file>